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080-2B69-4CD7-B149-191BB387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AC9-E2C7-4984-81B8-7B126A5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E56-F4BD-4AE3-B6B6-7771AC50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33B-981C-4C01-B3B6-14E0055D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DEE-F3B7-44E6-B343-B1DC0629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2F6-3517-4178-821B-B043E8DA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AB8-0DFF-4E70-AE7E-342353B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2C78-0DBB-41DD-B2DE-A3A3B98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BF2-2B8C-43D1-99B4-5EACDB0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6A12-53C2-4A2E-AB8B-C9D41ED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3326-70AB-4093-8591-3ADC86D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855-A37F-4F2E-BFA7-1AA94CF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569-C468-40E3-AC37-055F09F3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EACF-79D7-42E2-A3AA-827266E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16B-E56C-48B4-B597-E18B71C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9A80-CCD2-4B33-93D6-9F61C0EA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44A-63A2-4B27-8863-26AED767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E90-C51A-4CA1-8CFC-A476FA3A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457-ECBE-4441-8FAD-3C35376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545-AE29-41EA-9C81-54270B0C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341-3184-4264-8A6C-48D60B1F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2BA-B949-408D-BB4A-BDD0D6B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AF2-ECBA-4164-9A62-2AD9FFF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808-1AD3-4F26-AE18-E804F79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29BE-36D8-4AFA-A53C-486BE7844B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e375"/>
                  </a:gs>
                  <a:gs pos="100000">
                    <a:srgbClr val="5896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5e375"/>
                </a:gs>
                <a:gs pos="100000">
                  <a:srgbClr val="7cd4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5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5e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5e3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557-E585-45DB-962F-6FE8585752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eminichiello@milforded.org" TargetMode="External"/><Relationship Id="rId2" Type="http://schemas.openxmlformats.org/officeDocument/2006/relationships/hyperlink" Target="http://ce-wiki.wikispaces.com/The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008 Computers in Librarie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ilding Dynamic Web Environments-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vercoming Restric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y Ellen Minichiel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seph A. Foran High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lford, 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33720" y="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s look for new books on new technolog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Web 2.0 Concerns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abili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curity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afety 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Teacher Concerns with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Collaboration on the web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ime restrai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pace restrai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ccess to compu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Advantages to sharing student work on line: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aboration with other students and adul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 Indep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 Responsibility for their own lea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eminichiello@milforded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wiki page will have all of our presentations as well as relevant websites for you to view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ce-wiki.wikispaces.com/Th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Internetatschoolseast+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Presentation++Wi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e Many Hats of a Library Media Specialis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: collabo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 for Technology conc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vocate for all students having interesting reading mate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for First Amendment and copy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aluator of books and websites for student u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1828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Comic Sans MS"/>
              </a:rPr>
              <a:t>Library Media Center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cddrive"/>
          <p:cNvSpPr/>
          <p:nvPr/>
        </p:nvSpPr>
        <p:spPr>
          <a:xfrm>
            <a:off x="6553080" y="2895480"/>
            <a:ext cx="1752840" cy="83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15840" cy="16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219320" y="3505320"/>
            <a:ext cx="1815840" cy="1749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86200" y="3733920"/>
            <a:ext cx="16732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60800" y="67788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Library Media Cen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uter area of our media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9400" y="60156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286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till have  books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81080" y="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ts of books!! They are still the primary source for resear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981080" y="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use the media center for stud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e375"/>
            </a:gs>
            <a:gs pos="100000">
              <a:srgbClr val="3358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380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ents use the media center for web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58:19Z</dcterms:created>
  <dc:creator>Milford Public Schools</dc:creator>
  <dc:description/>
  <dc:language>en-US</dc:language>
  <cp:lastModifiedBy>Milford Public Schools</cp:lastModifiedBy>
  <dcterms:modified xsi:type="dcterms:W3CDTF">2008-04-04T17:38:28Z</dcterms:modified>
  <cp:revision>17</cp:revision>
  <dc:subject/>
  <dc:title>Slide 1</dc:title>
</cp:coreProperties>
</file>